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gif" ContentType="image/gif"/>
  <Override PartName="/ppt/media/image9.png" ContentType="image/png"/>
  <Override PartName="/ppt/media/image12.wmf" ContentType="image/x-wmf"/>
  <Override PartName="/ppt/media/image1.jpeg" ContentType="image/jpeg"/>
  <Override PartName="/ppt/media/image5.png" ContentType="image/png"/>
  <Override PartName="/ppt/media/image3.png" ContentType="image/png"/>
  <Override PartName="/ppt/media/image13.gif" ContentType="image/gif"/>
  <Override PartName="/ppt/media/image14.wmf" ContentType="image/x-wmf"/>
  <Override PartName="/ppt/media/image6.png" ContentType="image/png"/>
  <Override PartName="/ppt/media/image7.jpeg" ContentType="image/jpeg"/>
  <Override PartName="/ppt/media/image15.gif" ContentType="image/gif"/>
  <Override PartName="/ppt/media/image4.jpeg" ContentType="image/jpeg"/>
  <Override PartName="/ppt/media/image10.wmf" ContentType="image/x-wmf"/>
  <Override PartName="/ppt/media/image2.png" ContentType="image/png"/>
  <Override PartName="/ppt/media/image16.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1B38-F0AD-4A6E-8DFA-E24A93AC3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E2D7-FC33-4B5D-95AB-FF00E3B5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33C16-D433-48FD-A111-6A11098BF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F2036-B464-4D27-A18D-CCAE18419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3DD69-2655-47FD-9AA4-0308544C5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9DFE6-5F5D-46C0-8D03-20775FE4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925CC-9A3C-4FB7-9CA8-783B84808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EBA71-4A1F-4F68-8ECE-0D64403D8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A2FDF-4863-4FAC-9F53-0F7FF73F2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F6816-918E-4F3A-BAA8-7E0908B02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94492-AC72-4F34-ADF7-B51109E25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9D9D3-D20B-400D-8B53-C2E803BE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F1053-42B1-494F-B05D-65C2FF0FE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0B97E-8B9A-4068-9227-4C0761232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85723-A2BF-4539-9851-3974F142B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E5BBE-5D85-4EC1-A966-91F834EA0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87FD3-C376-4360-94F7-2F24970F1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63DA7-AA35-4971-962B-36AC684AA8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CF0C2-75AB-46ED-B93B-58BBCDF15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6F8F3-F855-4134-AB56-B6CEDD63A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F394C-0829-492C-851B-C64333B95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BE782-B2DF-4967-97FE-75F3A9374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42988-9AAE-4807-A735-5D3FA00DE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EFC11-0C99-49E2-9647-4861A3328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B7B21-0429-4DE5-B1E4-43F5A716D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9C2B5-E340-4165-98E6-A4A1D0A10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614AE-E716-4A4B-8484-2FAB5F7C1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276CC4-A46D-43E8-81AA-FE24A29B0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A536B0-B895-4032-BE73-9F0522DB5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53B947-41DA-4C58-B7D1-A931395E54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2E2C5A-83AA-49C7-A113-8CEA39971D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9BBB4-8AAD-4B48-959C-B4BE3317A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A7BB9-AC74-41FB-91DF-A67F53C2D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3FC8-4632-416D-963A-C804EE983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61470-5606-484A-9CF1-4D0D8AF824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FA615-467C-475B-AD83-E920DF4C34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D8F384-C0C6-40EA-96BD-F487DFFF2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502A9-DF30-4644-80C8-1E5F1F9F1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1B2AD-D684-425C-B1DB-0088AFF48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867C9-2180-41F5-A9B4-2AD19DE7A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BF872-CAA0-41AB-B773-B72FD68BF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85DC99-201B-4E61-AB16-A1EC146A5C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D5A96B-3606-41C2-A92E-542FAFAB35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63F43-D674-48BC-8480-FDBBFB1E5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26A8-CF13-42C3-9935-5B36BA6EE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A131E-07E9-4FFE-AB90-F5F77DEF2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ED699-0BFF-4003-9891-750DED4AB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74D6-2424-4234-B951-FFBB8C09D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47AC-55C4-4E15-A045-277892A00E02}"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92FD-62FC-4651-97DD-B8EF73FD8FC9}"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A73D-B8B8-4DBD-9869-8F19415BD37A}"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5048-FFD8-4CBA-8899-B4CE71F2A2A5}"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bbc.co.uk/skillswise/numbers/wholenumbers/multiplication/timestables/flash3.shtml"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gi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wmf"/><Relationship Id="rId3" Type="http://schemas.openxmlformats.org/officeDocument/2006/relationships/image" Target="../media/image15.gi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53880" y="208080"/>
            <a:ext cx="8229600" cy="1187280"/>
          </a:xfrm>
          <a:prstGeom prst="rect">
            <a:avLst/>
          </a:prstGeom>
          <a:ln w="0">
            <a:noFill/>
          </a:ln>
        </p:spPr>
      </p:pic>
      <p:sp>
        <p:nvSpPr>
          <p:cNvPr id="196" name="PlaceHolder 1"/>
          <p:cNvSpPr>
            <a:spLocks noGrp="1"/>
          </p:cNvSpPr>
          <p:nvPr>
            <p:ph type="subTitle"/>
          </p:nvPr>
        </p:nvSpPr>
        <p:spPr>
          <a:xfrm>
            <a:off x="1214280" y="1071720"/>
            <a:ext cx="640080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2"/>
              </a:rPr>
              <a:t>http://www.bbc.co.uk/skillswise/numbers/wholenumbers/multiplication/timestables/flash3.shtml</a:t>
            </a:r>
            <a:endParaRPr b="0" lang="en-US" sz="2600" spc="-1" strike="noStrike">
              <a:solidFill>
                <a:srgbClr val="ffffff"/>
              </a:solidFill>
              <a:latin typeface="Constantia"/>
            </a:endParaRPr>
          </a:p>
        </p:txBody>
      </p:sp>
      <p:sp>
        <p:nvSpPr>
          <p:cNvPr id="197" name="TextBox 3"/>
          <p:cNvSpPr/>
          <p:nvPr/>
        </p:nvSpPr>
        <p:spPr>
          <a:xfrm>
            <a:off x="714240" y="2714760"/>
            <a:ext cx="7572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aim of the game is to colour all the squares except the blank squares. First you have to click the times tables you want to use. Then you have to choose if you want a timer or not. Then you have to find the number it tells you to find. I enjoyed this game . I would recommend this game for all grades .</a:t>
            </a:r>
            <a:endParaRPr b="0" lang="en-US" sz="3200" spc="-1" strike="noStrike">
              <a:solidFill>
                <a:srgbClr val="00000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57120" y="356760"/>
            <a:ext cx="8229600" cy="1071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aniel Radcliffe (Harry Potter)</a:t>
            </a:r>
            <a:endParaRPr b="0" lang="en-US" sz="5000" spc="-1" strike="noStrike">
              <a:solidFill>
                <a:srgbClr val="04617b"/>
              </a:solidFill>
              <a:latin typeface="Calibri"/>
            </a:endParaRPr>
          </a:p>
        </p:txBody>
      </p:sp>
      <p:sp>
        <p:nvSpPr>
          <p:cNvPr id="199" name=""/>
          <p:cNvSpPr txBox="1"/>
          <p:nvPr/>
        </p:nvSpPr>
        <p:spPr>
          <a:xfrm>
            <a:off x="457200" y="1600200"/>
            <a:ext cx="8229600" cy="504360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aniel is famous because of his books and his mov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aniel was born on 23 Jul 1989 . He is 20 years old. He was born at Fulham, London, Engl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that Dumbledore is gay and he had a crush on the wizard Grindelwald, whom he later defeated in a wizard due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Daniel Radcliffe is worth roughly $20 mill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Daniel Radcliffe was born in Queen Charlotte's Hospital, West London, Engl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that Daniel Radcliffe first expressed a desire to act at the age of fiv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that Daniel Radcliffe was asked to audition for the role of Harry Potter in 2000 by producer David Heyma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Content Placeholder 2" descr="Daniel-Radcliffe[1].jpg"/>
          <p:cNvPicPr/>
          <p:nvPr/>
        </p:nvPicPr>
        <p:blipFill>
          <a:blip r:embed="rId1"/>
          <a:stretch/>
        </p:blipFill>
        <p:spPr>
          <a:xfrm>
            <a:off x="1071720" y="1071720"/>
            <a:ext cx="7235640" cy="5500440"/>
          </a:xfrm>
          <a:prstGeom prst="rect">
            <a:avLst/>
          </a:prstGeom>
          <a:ln w="0">
            <a:noFill/>
          </a:ln>
        </p:spPr>
      </p:pic>
      <p:grpSp>
        <p:nvGrpSpPr>
          <p:cNvPr id="201" name="TextBox 3"/>
          <p:cNvGrpSpPr/>
          <p:nvPr/>
        </p:nvGrpSpPr>
        <p:grpSpPr>
          <a:xfrm>
            <a:off x="811080" y="-115920"/>
            <a:ext cx="7662960" cy="1060560"/>
            <a:chOff x="811080" y="-115920"/>
            <a:chExt cx="7662960" cy="1060560"/>
          </a:xfrm>
        </p:grpSpPr>
        <p:pic>
          <p:nvPicPr>
            <p:cNvPr id="202" name="TextBox 3" descr=""/>
            <p:cNvPicPr/>
            <p:nvPr/>
          </p:nvPicPr>
          <p:blipFill>
            <a:blip r:embed="rId2"/>
            <a:stretch/>
          </p:blipFill>
          <p:spPr>
            <a:xfrm>
              <a:off x="811080" y="-115920"/>
              <a:ext cx="7662960" cy="1060560"/>
            </a:xfrm>
            <a:prstGeom prst="rect">
              <a:avLst/>
            </a:prstGeom>
            <a:ln w="0">
              <a:noFill/>
            </a:ln>
          </p:spPr>
        </p:pic>
        <p:sp>
          <p:nvSpPr>
            <p:cNvPr id="203" name=""/>
            <p:cNvSpPr/>
            <p:nvPr/>
          </p:nvSpPr>
          <p:spPr>
            <a:xfrm>
              <a:off x="928800" y="0"/>
              <a:ext cx="7429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Black"/>
                </a:rPr>
                <a:t>Daniel Radcliffe</a:t>
              </a:r>
              <a:endParaRPr b="0" lang="en-US" sz="4800" spc="-1" strike="noStrike">
                <a:solidFill>
                  <a:srgbClr val="000000"/>
                </a:solidFill>
                <a:latin typeface="Arial"/>
              </a:endParaRPr>
            </a:p>
          </p:txBody>
        </p:sp>
      </p:gr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McDonalds</a:t>
            </a:r>
            <a:endParaRPr b="0" lang="en-US" sz="5000" spc="-1" strike="noStrike">
              <a:solidFill>
                <a:srgbClr val="04617b"/>
              </a:solidFill>
              <a:latin typeface="Calibri"/>
            </a:endParaRPr>
          </a:p>
        </p:txBody>
      </p:sp>
      <p:sp>
        <p:nvSpPr>
          <p:cNvPr id="205" name=""/>
          <p:cNvSpPr txBox="1"/>
          <p:nvPr/>
        </p:nvSpPr>
        <p:spPr>
          <a:xfrm>
            <a:off x="45720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ick and Mac McDonald founded McDonald’s. Macca’s started in 1955. McDonald's success is mainly its meals.</a:t>
            </a:r>
            <a:r>
              <a:rPr b="1" lang="en-AU" sz="2600" spc="-1" strike="noStrike">
                <a:solidFill>
                  <a:srgbClr val="000000"/>
                </a:solidFill>
                <a:latin typeface="Constantia"/>
              </a:rPr>
              <a:t> </a:t>
            </a:r>
            <a:r>
              <a:rPr b="0" lang="en-AU" sz="2600" spc="-1" strike="noStrike">
                <a:solidFill>
                  <a:srgbClr val="000000"/>
                </a:solidFill>
                <a:latin typeface="Constantia"/>
              </a:rPr>
              <a:t>McDonalds averaged 20 Million dollars annual income between the years 2007 and 2004.</a:t>
            </a:r>
            <a:endParaRPr b="0" lang="en-US" sz="26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y opened their first restaurant in a Sydney suburb called Yagoona. They opened it In 1971. Dick and Mac McDonald own McDonald’s.       </a:t>
            </a:r>
            <a:endParaRPr b="0" lang="en-US" sz="2600" spc="-1" strike="noStrike">
              <a:solidFill>
                <a:srgbClr val="000000"/>
              </a:solidFill>
              <a:latin typeface="Constanti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0000"/>
                </a:solidFill>
                <a:latin typeface="Calibri"/>
              </a:rPr>
              <a:t>McDonald’s logo</a:t>
            </a:r>
            <a:endParaRPr b="0" lang="en-US" sz="6600" spc="-1" strike="noStrike">
              <a:solidFill>
                <a:srgbClr val="04617b"/>
              </a:solidFill>
              <a:latin typeface="Calibri"/>
            </a:endParaRPr>
          </a:p>
        </p:txBody>
      </p:sp>
      <p:pic>
        <p:nvPicPr>
          <p:cNvPr id="208" name="Content Placeholder 3" descr="logo-mcdonalds-trans[1].png"/>
          <p:cNvPicPr/>
          <p:nvPr/>
        </p:nvPicPr>
        <p:blipFill>
          <a:blip r:embed="rId1"/>
          <a:stretch/>
        </p:blipFill>
        <p:spPr>
          <a:xfrm>
            <a:off x="1428840" y="2143080"/>
            <a:ext cx="6072120" cy="4589640"/>
          </a:xfrm>
          <a:prstGeom prst="rect">
            <a:avLst/>
          </a:prstGeom>
          <a:ln w="0">
            <a:noFill/>
          </a:ln>
        </p:spPr>
      </p:pic>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285840" y="214200"/>
            <a:ext cx="8429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in characters in the story are the king ,Rumplestiltskin and the millers daugh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tory takes place in a cas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gic" in the story is Rumplestiltskin spinning gold from stra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n’t  any magical numbers in the s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ood deed happening in the story is the messenger finding out  Rumplestiltskins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bad or evil deed happening in the story is Rumplestiltskin trying to get the ba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isn’t any conflict between any of the characters in the s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onflict isn’t resolved because there isn’t one.</a:t>
            </a:r>
            <a:endParaRPr b="0" lang="en-US" sz="2000" spc="-1" strike="noStrike">
              <a:solidFill>
                <a:srgbClr val="000000"/>
              </a:solidFill>
              <a:latin typeface="Arial"/>
            </a:endParaRPr>
          </a:p>
        </p:txBody>
      </p:sp>
      <p:pic>
        <p:nvPicPr>
          <p:cNvPr id="210" name="Picture 4" descr="d:\Users\harrisonv.STAWELL-PS\AppData\Local\Microsoft\Windows\Temporary Internet Files\Content.IE5\5CTK9SDO\MCj01160680000[1].wmf"/>
          <p:cNvPicPr/>
          <p:nvPr/>
        </p:nvPicPr>
        <p:blipFill>
          <a:blip r:embed="rId1"/>
          <a:stretch/>
        </p:blipFill>
        <p:spPr>
          <a:xfrm>
            <a:off x="1000080" y="3714840"/>
            <a:ext cx="2357640" cy="2868480"/>
          </a:xfrm>
          <a:prstGeom prst="rect">
            <a:avLst/>
          </a:prstGeom>
          <a:ln w="0">
            <a:noFill/>
          </a:ln>
        </p:spPr>
      </p:pic>
      <p:pic>
        <p:nvPicPr>
          <p:cNvPr id="211" name="Picture 6" descr="C:\Program Files\Microsoft Office\Media\CntCD1\Animated\j0283985.gif"/>
          <p:cNvPicPr/>
          <p:nvPr/>
        </p:nvPicPr>
        <p:blipFill>
          <a:blip r:embed="rId2"/>
          <a:stretch/>
        </p:blipFill>
        <p:spPr>
          <a:xfrm>
            <a:off x="3571920" y="3429000"/>
            <a:ext cx="2800440" cy="2800440"/>
          </a:xfrm>
          <a:prstGeom prst="rect">
            <a:avLst/>
          </a:prstGeom>
          <a:ln w="0">
            <a:noFill/>
          </a:ln>
        </p:spPr>
      </p:pic>
      <p:pic>
        <p:nvPicPr>
          <p:cNvPr id="212" name="Picture 7" descr="C:\Program Files\Microsoft Office\Media\CntCD1\ClipArt2\j0216564.wmf"/>
          <p:cNvPicPr/>
          <p:nvPr/>
        </p:nvPicPr>
        <p:blipFill>
          <a:blip r:embed="rId3"/>
          <a:stretch/>
        </p:blipFill>
        <p:spPr>
          <a:xfrm>
            <a:off x="6858000" y="3786120"/>
            <a:ext cx="2016000" cy="2278080"/>
          </a:xfrm>
          <a:prstGeom prst="rect">
            <a:avLst/>
          </a:prstGeom>
          <a:ln w="0">
            <a:noFill/>
          </a:ln>
        </p:spPr>
      </p:pic>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e End</a:t>
            </a:r>
            <a:endParaRPr b="0" lang="en-US" sz="5000" spc="-1" strike="noStrike">
              <a:solidFill>
                <a:srgbClr val="04617b"/>
              </a:solidFill>
              <a:latin typeface="Calibri"/>
            </a:endParaRPr>
          </a:p>
        </p:txBody>
      </p:sp>
      <p:pic>
        <p:nvPicPr>
          <p:cNvPr id="214" name="Picture 2" descr="C:\Program Files\Microsoft Office\Media\CntCD1\Animated\j0236322.gif"/>
          <p:cNvPicPr/>
          <p:nvPr/>
        </p:nvPicPr>
        <p:blipFill>
          <a:blip r:embed="rId1"/>
          <a:stretch/>
        </p:blipFill>
        <p:spPr>
          <a:xfrm>
            <a:off x="1230480" y="1968480"/>
            <a:ext cx="2774880" cy="2570040"/>
          </a:xfrm>
          <a:prstGeom prst="rect">
            <a:avLst/>
          </a:prstGeom>
          <a:ln w="0">
            <a:noFill/>
          </a:ln>
        </p:spPr>
      </p:pic>
      <p:pic>
        <p:nvPicPr>
          <p:cNvPr id="215" name="Picture 3" descr="d:\Users\harrisonv.STAWELL-PS\AppData\Local\Microsoft\Windows\Temporary Internet Files\Content.IE5\CCLVLYZ0\MCj04420240000[1].wmf"/>
          <p:cNvPicPr/>
          <p:nvPr/>
        </p:nvPicPr>
        <p:blipFill>
          <a:blip r:embed="rId2"/>
          <a:stretch/>
        </p:blipFill>
        <p:spPr>
          <a:xfrm>
            <a:off x="5286240" y="2143080"/>
            <a:ext cx="2597400" cy="1838520"/>
          </a:xfrm>
          <a:prstGeom prst="rect">
            <a:avLst/>
          </a:prstGeom>
          <a:ln w="0">
            <a:noFill/>
          </a:ln>
        </p:spPr>
      </p:pic>
      <p:pic>
        <p:nvPicPr>
          <p:cNvPr id="216" name="Picture 4" descr="C:\Program Files\Microsoft Office\Media\CntCD1\Animated\j0236296.gif"/>
          <p:cNvPicPr/>
          <p:nvPr/>
        </p:nvPicPr>
        <p:blipFill>
          <a:blip r:embed="rId3"/>
          <a:stretch/>
        </p:blipFill>
        <p:spPr>
          <a:xfrm>
            <a:off x="500040" y="4878360"/>
            <a:ext cx="2000160" cy="1854360"/>
          </a:xfrm>
          <a:prstGeom prst="rect">
            <a:avLst/>
          </a:prstGeom>
          <a:ln w="0">
            <a:noFill/>
          </a:ln>
        </p:spPr>
      </p:pic>
      <p:pic>
        <p:nvPicPr>
          <p:cNvPr id="217" name="Picture 5" descr="d:\Users\harrisonv.STAWELL-PS\AppData\Local\Microsoft\Windows\Temporary Internet Files\Content.IE5\IJ7SFFBH\MCj04299890000[1].wmf"/>
          <p:cNvPicPr/>
          <p:nvPr/>
        </p:nvPicPr>
        <p:blipFill>
          <a:blip r:embed="rId4"/>
          <a:stretch/>
        </p:blipFill>
        <p:spPr>
          <a:xfrm>
            <a:off x="5000760" y="3949560"/>
            <a:ext cx="2857320" cy="283716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2:46:34Z</dcterms:created>
  <dc:creator>Education</dc:creator>
  <dc:description/>
  <dc:language>en-US</dc:language>
  <cp:lastModifiedBy>Education</cp:lastModifiedBy>
  <dcterms:modified xsi:type="dcterms:W3CDTF">2009-12-08T23:31:24Z</dcterms:modified>
  <cp:revision>39</cp:revision>
  <dc:subject/>
  <dc:title>Slide 1</dc:title>
</cp:coreProperties>
</file>